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635-3129-47E9-907E-69D734485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F842-EB1E-4EF8-943D-1B1D08E8E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388AE-D32D-4617-97C1-93AD72BA7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A635-72E4-4E78-998B-5728E95B9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C3550-06AC-4E8A-A97F-F983471CD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2F866-3F2B-4A6A-84E0-5B65C3493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E11CC-7F1F-4A32-A2FA-B7539A158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3F5BF-56CD-4C43-8248-7A166284F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C5114-BB2D-47E2-9A6C-DACCF985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6696B-4A3A-4804-8ADA-719CE9B38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02FB3-FD73-4C3E-978C-EB6ED30D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4D629-91B2-4B1B-8276-AD3CCDD7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A8C52-5B84-4662-84A1-097F09009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83986-E13C-41A0-AB97-0A1CA9DC1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C0A1-87F4-4615-AA36-5D567C4B9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CC34-8949-46B1-8C59-CFC46B4D7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637CA-BFC8-458D-9879-1B87E3D6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CA66-AF70-4444-9F38-7A49BA2FE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0BE1-000F-471E-9E1C-16F0262C2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5637-426B-43EE-878E-657AD6257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FDA92-FA09-41C5-A327-9D799344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0816-8E67-4829-A09D-1568407E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EC79D-0F33-4A11-B6BF-9C0F80576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A29F6-4156-4948-8F87-64C6E8196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FE4A-E456-463F-95CD-B66B6CCDAAB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CC3E4-98BA-4F31-9BD7-13332B291216}" type="slidenum">
              <a:rPr b="0" lang="cs-CZ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2133360"/>
            <a:ext cx="7772400" cy="172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cs-CZ" sz="3600" spc="-1" strike="noStrike">
                <a:solidFill>
                  <a:srgbClr val="333399"/>
                </a:solidFill>
                <a:latin typeface="Tahoma"/>
              </a:rPr>
              <a:t>Research Proposal</a:t>
            </a:r>
            <a:br>
              <a:rPr sz="3600"/>
            </a:br>
            <a:br>
              <a:rPr sz="2800"/>
            </a:br>
            <a:r>
              <a:rPr b="0" i="1" lang="cs-CZ" sz="2800" spc="-1" strike="noStrike">
                <a:solidFill>
                  <a:srgbClr val="ff0000"/>
                </a:solidFill>
                <a:latin typeface="Tahoma"/>
              </a:rPr>
              <a:t>Assignment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4437000"/>
            <a:ext cx="6400800" cy="120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998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555640"/>
            <a:ext cx="8229600" cy="357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ormulate research questions to capture research problem and to provide framework for description of findin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dicate what data will be needed for research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search questions influence data collection and analy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3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638000" y="1278000"/>
            <a:ext cx="7048440" cy="604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The research questions (cont.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problem: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GB" sz="2000" spc="-1" strike="noStrike">
                <a:solidFill>
                  <a:srgbClr val="000000"/>
                </a:solidFill>
                <a:latin typeface="Tahoma"/>
              </a:rPr>
              <a:t>Using social media in advertising for increasing its effe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ahoma"/>
              </a:rPr>
              <a:t>Research question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i="1" sz="20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i="1" sz="20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3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39" name="Rounded Rectangle 1"/>
          <p:cNvSpPr/>
          <p:nvPr/>
        </p:nvSpPr>
        <p:spPr>
          <a:xfrm>
            <a:off x="646200" y="1989000"/>
            <a:ext cx="1404720" cy="43200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Examp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638000" y="1277640"/>
            <a:ext cx="7048440" cy="42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he research objectives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2060280"/>
            <a:ext cx="822960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sz="1500" spc="-1" strike="noStrike">
                <a:solidFill>
                  <a:srgbClr val="000000"/>
                </a:solidFill>
                <a:latin typeface="Tahoma"/>
              </a:rPr>
              <a:t>when formulating research objectives respect research question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500" spc="-1" strike="noStrike">
                <a:solidFill>
                  <a:srgbClr val="000000"/>
                </a:solidFill>
                <a:latin typeface="Tahoma"/>
              </a:rPr>
              <a:t>- the research objectives more specify research focus</a:t>
            </a: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Why do companies use social media in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goal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do companies use social media in advertising?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describe ways of social media using in advertisement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measure influence of social media using on effectiveness of advertising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3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propose suitable indicators to measue influence of social media using on effectiveness of advertising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300" spc="-1" strike="noStrike">
                <a:solidFill>
                  <a:srgbClr val="000000"/>
                </a:solidFill>
                <a:latin typeface="Tahoma"/>
              </a:rPr>
              <a:t>RQ</a:t>
            </a:r>
            <a:r>
              <a:rPr b="0" sz="1300" spc="-1" strike="noStrike" baseline="-25000">
                <a:solidFill>
                  <a:srgbClr val="000000"/>
                </a:solidFill>
                <a:latin typeface="Tahoma"/>
              </a:rPr>
              <a:t>4</a:t>
            </a:r>
            <a:r>
              <a:rPr b="0" sz="1300" spc="-1" strike="noStrike">
                <a:solidFill>
                  <a:srgbClr val="000000"/>
                </a:solidFill>
                <a:latin typeface="Tahoma"/>
              </a:rPr>
              <a:t>: How is it possible to increase effectiveness of advertising by using social media? 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a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identify factors influencing effectiveness of advertising by using social media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RO</a:t>
            </a:r>
            <a:r>
              <a:rPr b="0" i="1" sz="1300" spc="-1" strike="noStrike" baseline="-25000">
                <a:solidFill>
                  <a:srgbClr val="000000"/>
                </a:solidFill>
                <a:latin typeface="Tahoma"/>
              </a:rPr>
              <a:t>4b</a:t>
            </a:r>
            <a:r>
              <a:rPr b="0" i="1" sz="1300" spc="-1" strike="noStrike">
                <a:solidFill>
                  <a:srgbClr val="000000"/>
                </a:solidFill>
                <a:latin typeface="Tahoma"/>
              </a:rPr>
              <a:t>: To judge if some of factors have higher influence than others.</a:t>
            </a: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4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45" name="Rounded Rectangle 1"/>
          <p:cNvSpPr/>
          <p:nvPr/>
        </p:nvSpPr>
        <p:spPr>
          <a:xfrm>
            <a:off x="457200" y="2808360"/>
            <a:ext cx="2438280" cy="287280"/>
          </a:xfrm>
          <a:prstGeom prst="roundRect">
            <a:avLst>
              <a:gd name="adj" fmla="val 16667"/>
            </a:avLst>
          </a:prstGeom>
          <a:solidFill>
            <a:srgbClr val="00e4a8"/>
          </a:solidFill>
          <a:ln w="25560">
            <a:solidFill>
              <a:srgbClr val="00a7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Example- continued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050560" y="1125000"/>
            <a:ext cx="6635880" cy="79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Hypothes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the case tha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each specific question you can predict in advance what you expect (before you get and analyze dat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cs-CZ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 prediction is based on the theory from which one can derive hypothe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Use the hypothesis, if it is possible and useful and do not use it if it does no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0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Prepare it in this way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1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1: (it can be also RO1a, RO1b,…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1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, it could be also H1a, H1b,… if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Q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O2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H2: (</a:t>
            </a:r>
            <a:r>
              <a:rPr b="0" i="1" lang="en-US" sz="2000" spc="-1" strike="noStrike">
                <a:solidFill>
                  <a:srgbClr val="ff0000"/>
                </a:solidFill>
                <a:latin typeface="Tahoma"/>
              </a:rPr>
              <a:t>only if hypothesis will be tested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.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The number of research questions, objectives and hypotheses is connected with character of your research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1271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questions (RQ), objectives (RO) and hypotheses (H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042560" y="1052280"/>
            <a:ext cx="764388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Quantitative or qualitative research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earch is captured by the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76"/>
              </a:spcBef>
              <a:buClr>
                <a:srgbClr val="ff0000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What data are needed to answer them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76"/>
              </a:spcBef>
              <a:buClr>
                <a:srgbClr val="3333cc"/>
              </a:buClr>
              <a:buSzPct val="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How to collect and analyze data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3" marL="1551960" indent="-221400">
              <a:lnSpc>
                <a:spcPct val="90000"/>
              </a:lnSpc>
              <a:spcBef>
                <a:spcPts val="476"/>
              </a:spcBef>
              <a:buClr>
                <a:srgbClr val="ffcf01"/>
              </a:buClr>
              <a:buSzPct val="55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Tahoma"/>
              </a:rPr>
              <a:t>Results of analyzing data for answering research questions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Testing theory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r </a:t>
            </a:r>
            <a:r>
              <a:rPr b="1" lang="en-GB" sz="2000" spc="-1" strike="noStrike">
                <a:solidFill>
                  <a:srgbClr val="ff0000"/>
                </a:solidFill>
                <a:latin typeface="Tahoma"/>
              </a:rPr>
              <a:t>creating new theo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Verification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testing hypotheses defined on the base of literature review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nt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Theory Creation</a:t>
            </a:r>
            <a:r>
              <a:rPr b="0" lang="en-GB" sz="2000" spc="-1" strike="noStrike">
                <a:solidFill>
                  <a:srgbClr val="00b0f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– suggestion or development of a theory that would explain phenomena or results - </a:t>
            </a:r>
            <a:r>
              <a:rPr b="1" lang="en-GB" sz="2000" spc="-1" strike="noStrike">
                <a:solidFill>
                  <a:srgbClr val="00b0f0"/>
                </a:solidFill>
                <a:latin typeface="Tahoma"/>
              </a:rPr>
              <a:t>qualitative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59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332000" y="1422360"/>
            <a:ext cx="7354800" cy="71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How to choose a suitable research approach and methods?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57200" y="2276640"/>
            <a:ext cx="8229600" cy="36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- answering these questions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Do you intend to make a standardized comparison, quantify the relationships between the variables and describe the variability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Or, do you want to seek a more detailed study of a phenomenon or situation, holistically and in a context, with a focus on interpretations or processes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suggestions can be found in the literature on the topic within this methodological issu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are the practical implications of each alternative (including access to data and sources needs)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ich way leads to deeper knowledge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What type of research is closer to your mind?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6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920" y="214200"/>
            <a:ext cx="780408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333399"/>
                </a:solidFill>
                <a:latin typeface="Tahoma"/>
              </a:rPr>
              <a:t>Methodology of research (approach, methods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394920" y="2017800"/>
            <a:ext cx="85597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32000" y="105228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333399"/>
                </a:solidFill>
                <a:latin typeface="Tahoma"/>
              </a:rPr>
              <a:t>How to collect and analyse data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what data (primary / secondary) you need to answer research questions - choose the techniques to collect them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questionnaire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interviews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observations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collection tools and procedures for individual technique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questionnaires - what kind of questions, posting by mail, electronically, </a:t>
            </a:r>
            <a:r>
              <a:rPr b="0" lang="is-IS" sz="16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ff0000"/>
              </a:buClr>
              <a:buSzPct val="55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for interviews - where, when, how to record, .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ff0000"/>
                </a:solidFill>
                <a:latin typeface="Tahoma"/>
              </a:rPr>
              <a:t>Data Analysis </a:t>
            </a:r>
            <a:endParaRPr b="0" lang="en-US" sz="19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- identify how data will be analysed to get answers to research questions and to solve a research problem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Title of thesi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PhD stud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Supervis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Data collection technique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87280" y="1415520"/>
            <a:ext cx="7499520" cy="933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preparing a research timetable will help verify the feasibility of research over a given time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ivision of research into phases (steps) 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each phase has a time period to comp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resources need to be assessed on material and financial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availability of databases, software, </a:t>
            </a:r>
            <a:r>
              <a:rPr b="0" lang="is-IS" sz="20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-  availability of  financial sources or how could b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ources for research obtain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78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Timetable and resources needed for carrying out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836640"/>
            <a:ext cx="749952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Tahoma"/>
              </a:rPr>
              <a:t>Expected limitations of your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593640" y="2099880"/>
            <a:ext cx="8229600" cy="39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818820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theory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3640" y="333000"/>
            <a:ext cx="86310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Expected benefits for practic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82600" y="333000"/>
            <a:ext cx="7653600" cy="1461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333399"/>
                </a:solidFill>
                <a:latin typeface="Tahoma"/>
              </a:rPr>
              <a:t>References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182600" y="1628280"/>
            <a:ext cx="7772400" cy="450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124000" y="1341000"/>
            <a:ext cx="6562800" cy="574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7200" y="2349000"/>
            <a:ext cx="8229600" cy="37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Tahoma"/>
              </a:rPr>
              <a:t>Try to identify topic to stu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entral idea to learn about or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5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0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Area of interes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403280" y="1267920"/>
            <a:ext cx="7283520" cy="50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Literature review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- demonstrat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level of knowledg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tr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Tahoma"/>
              </a:rPr>
              <a:t>g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„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Create argumentation, no library“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2400" spc="-1" strike="noStrike">
                <a:solidFill>
                  <a:srgbClr val="0070c0"/>
                </a:solidFill>
                <a:latin typeface="Tahoma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Tahoma"/>
              </a:rPr>
              <a:t>(Rudestam, Newton, 2002, s.59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14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Literature review (just summary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32000" y="1341000"/>
            <a:ext cx="7354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333399"/>
                </a:solidFill>
                <a:latin typeface="Tahoma"/>
              </a:rPr>
              <a:t>Defining the research problem and the main objective of research </a:t>
            </a:r>
            <a:endParaRPr b="0" lang="en-US" sz="29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research problem is based on the so-called "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research ga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"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 existing literature, solutions and research results can not be found, the problem has not been addressed, 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roblem has been solved, but the results are different, conflicts can be found in theoretical approaches, empirical methods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identified research problem follows by the formulation of the </a:t>
            </a:r>
            <a:r>
              <a:rPr b="0" lang="en-GB" sz="2000" spc="-1" strike="noStrike">
                <a:solidFill>
                  <a:srgbClr val="ff0000"/>
                </a:solidFill>
                <a:latin typeface="Tahoma"/>
              </a:rPr>
              <a:t>main objective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f the thesi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0" name="Picture 4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pic>
        <p:nvPicPr>
          <p:cNvPr id="121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Research problem and main aim </a:t>
            </a:r>
            <a:br>
              <a:rPr sz="3200"/>
            </a:br>
            <a:r>
              <a:rPr b="0" lang="cs-CZ" sz="3200" spc="-1" strike="noStrike">
                <a:solidFill>
                  <a:srgbClr val="333399"/>
                </a:solidFill>
                <a:latin typeface="Tahoma"/>
              </a:rPr>
              <a:t>of research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11600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63640" y="1484280"/>
            <a:ext cx="6624720" cy="1657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How to set research questions, objectives and hypothes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25" name="Picture 6" descr=""/>
          <p:cNvPicPr/>
          <p:nvPr/>
        </p:nvPicPr>
        <p:blipFill>
          <a:blip r:embed="rId1"/>
          <a:stretch/>
        </p:blipFill>
        <p:spPr>
          <a:xfrm>
            <a:off x="622440" y="6230880"/>
            <a:ext cx="204480" cy="236520"/>
          </a:xfrm>
          <a:prstGeom prst="rect">
            <a:avLst/>
          </a:prstGeom>
          <a:ln w="0">
            <a:noFill/>
          </a:ln>
        </p:spPr>
      </p:pic>
      <p:sp>
        <p:nvSpPr>
          <p:cNvPr id="126" name="Zástupný symbol pro číslo snímku 11"/>
          <p:cNvSpPr/>
          <p:nvPr/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0111-149A-4912-835A-792A05FCF4D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Obrázek 12" descr=""/>
          <p:cNvPicPr/>
          <p:nvPr/>
        </p:nvPicPr>
        <p:blipFill>
          <a:blip r:embed="rId2"/>
          <a:stretch/>
        </p:blipFill>
        <p:spPr>
          <a:xfrm>
            <a:off x="1638360" y="0"/>
            <a:ext cx="5748120" cy="1278000"/>
          </a:xfrm>
          <a:prstGeom prst="rect">
            <a:avLst/>
          </a:prstGeom>
          <a:ln w="0">
            <a:noFill/>
          </a:ln>
        </p:spPr>
      </p:pic>
      <p:sp>
        <p:nvSpPr>
          <p:cNvPr id="128" name="Footer Placeholder 3"/>
          <p:cNvSpPr/>
          <p:nvPr/>
        </p:nvSpPr>
        <p:spPr>
          <a:xfrm>
            <a:off x="884160" y="6093000"/>
            <a:ext cx="24638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80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prof. Dr. Ing. Drahomíra Pavelková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Tomas Bata University in Zlín, 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100" spc="-1" strike="noStrike">
                <a:solidFill>
                  <a:srgbClr val="000000"/>
                </a:solidFill>
                <a:latin typeface="Berlin CE"/>
              </a:rPr>
              <a:t>Faculty of Management and Economics</a:t>
            </a:r>
            <a:endParaRPr b="0" lang="en-US" sz="11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2T07:44:03Z</dcterms:created>
  <dc:creator>Drahomíra Pavelková</dc:creator>
  <dc:description/>
  <dc:language>en-US</dc:language>
  <cp:lastModifiedBy>Drahomíra Pavelková</cp:lastModifiedBy>
  <dcterms:modified xsi:type="dcterms:W3CDTF">2019-09-11T19:13:08Z</dcterms:modified>
  <cp:revision>10</cp:revision>
  <dc:subject/>
  <dc:title>      Conceptual research framewor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5</vt:r8>
  </property>
</Properties>
</file>