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8A1-642F-4490-A047-5119FE5A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D9C-E72E-401D-8D69-9C02D9F5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9E9-5EE9-4881-A477-764BFDEB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2CB-46B3-4BF4-864C-E8B736F1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1C0D-7AD0-4679-BE11-78192214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736F-00F2-433D-B442-2A6FDBFA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8F64-73F8-485F-A6B3-345B678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2E1E-C2A5-47E6-8B93-A1EAEEB8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8399-E6FB-4D6C-B46A-BB0DB583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7618-4367-45E1-80A1-7AC6C13E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317D-4B5B-4A5E-8656-521AC2ED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672-5BD5-40E0-9F10-D05B968A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8D33-D418-4FA3-B9FE-24372F80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2B4F-0309-4E55-A6C4-70526B8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CA0C-FD2E-4B23-8B9A-8EA2E524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DF47-158D-4FBD-805D-AC4ACB15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BC1D-48E1-4912-ADD6-DFCF93A5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EE5-49E6-4B65-B337-EE337C92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EF5-452D-4E68-9877-6A5C4C89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A28-79F5-47E5-BDAB-70E3B75E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F50-7187-47AB-B566-5DD14051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7E6-4CBE-423D-A6A4-6D713B08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B73-7080-47C5-A22E-838443CD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DDC-4C90-45EA-A160-49F645B7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D8DB-5794-4554-9BF4-4EDD1C1975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B3CB-DF47-46E2-B106-F6AABDA70410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onceptuální rámec výzkumu -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úko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64-T"/>
          <p:cNvPicPr/>
          <p:nvPr/>
        </p:nvPicPr>
        <p:blipFill>
          <a:blip r:embed="rId1"/>
          <a:stretch/>
        </p:blipFill>
        <p:spPr>
          <a:xfrm>
            <a:off x="2627280" y="260280"/>
            <a:ext cx="340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echniky sběru a analýzy d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teorii/věd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prax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Použité zdroj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zev disertační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doktor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školit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Oblast výzku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Literární rešerš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Výzkumný problém a hlavní cíl výzkum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ýzkumné otáz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ílčí výzkumné cí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Hypoté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olba met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20:27:22Z</dcterms:created>
  <dc:creator>Pavelková Drahomíra</dc:creator>
  <dc:description/>
  <dc:language>en-US</dc:language>
  <cp:lastModifiedBy>Drahomíra Pavelková</cp:lastModifiedBy>
  <dcterms:modified xsi:type="dcterms:W3CDTF">2019-09-11T19:13:49Z</dcterms:modified>
  <cp:revision>2</cp:revision>
  <dc:subject/>
  <dc:title>      Konceptuální rámec výzkumu - úk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