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824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4336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1160" y="742680"/>
            <a:ext cx="4959360" cy="37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Verdana"/>
              </a:rPr>
              <a:t>Click to move the slide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0" y="941688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43360" y="941688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51B05FC-568C-467E-82FB-3214857A46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43360" y="941688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7232C9C-DFD9-4520-A09B-11F6C17DEB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4602F-81E2-40E7-B83D-C71D430EBE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B9335-5DF4-4451-AA9F-DCE0A05695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A734F-B442-4650-9E5C-F7B0B5724F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D1053-C9C5-435A-ACB7-B2BFB4BD40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D9295-F884-44A2-B358-9A7E635332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3E0D8-C6AA-491C-AAC2-36422412A5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BBCD3-1CB9-42A4-BF12-5546CD4066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D66CE-D6E1-43E8-98C8-CB6B3871CF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8E425-8ECA-439F-B095-829F5BF4E6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3A09E-6D71-45DB-AD9D-DDB69F9CB2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F57E1-C96A-4639-9E9D-A9D9B3F252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E9F8D-C3A6-4098-9872-85D433CBA4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Verdana"/>
              </a:rPr>
              <a:t>Click to edit the title text format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85E6-3F57-43AB-BC72-19EBF8CCECB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5" descr="logo-a_samo_sede"/>
          <p:cNvPicPr/>
          <p:nvPr/>
        </p:nvPicPr>
        <p:blipFill>
          <a:blip r:embed="rId2"/>
          <a:stretch/>
        </p:blipFill>
        <p:spPr>
          <a:xfrm>
            <a:off x="304920" y="6095880"/>
            <a:ext cx="761760" cy="47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"/>
          <p:cNvSpPr/>
          <p:nvPr/>
        </p:nvSpPr>
        <p:spPr>
          <a:xfrm>
            <a:off x="971640" y="1197000"/>
            <a:ext cx="7200720" cy="42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70c0"/>
                </a:solidFill>
                <a:latin typeface="Arial Narrow"/>
              </a:rPr>
              <a:t>Monetary Policy in Practice: Decision-making and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5f9bc8"/>
                </a:solidFill>
                <a:latin typeface="Arial Narrow"/>
              </a:rPr>
              <a:t>Mojmír Hampl, MSc., Ph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5f9bc8"/>
                </a:solidFill>
                <a:latin typeface="Arial Narrow"/>
              </a:rPr>
              <a:t>UTB Course: Financial System, Banks and Monetary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Forecasting team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353440" cy="53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ove the formal department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6 memb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s must be familiar with any used tech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ble to connect the real economy with a model vi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3 members from Macroeconomic Forecasting Divi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d of the team, NTF, Technical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1 member fro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etary Policy Division, International Analysis and Fiscal Analysis Div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Oval 4"/>
          <p:cNvSpPr/>
          <p:nvPr/>
        </p:nvSpPr>
        <p:spPr>
          <a:xfrm>
            <a:off x="2171880" y="2925720"/>
            <a:ext cx="2974680" cy="149868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2711520" y="3424320"/>
            <a:ext cx="2295360" cy="49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2851200" y="3490920"/>
            <a:ext cx="189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Forecasting t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8"/>
          <p:cNvSpPr/>
          <p:nvPr/>
        </p:nvSpPr>
        <p:spPr>
          <a:xfrm>
            <a:off x="1360440" y="1681200"/>
            <a:ext cx="1625760" cy="87480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1495440" y="1930320"/>
            <a:ext cx="1351080" cy="37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1805040" y="1995480"/>
            <a:ext cx="55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Arial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14"/>
          <p:cNvGrpSpPr/>
          <p:nvPr/>
        </p:nvGrpSpPr>
        <p:grpSpPr>
          <a:xfrm>
            <a:off x="2171880" y="2303640"/>
            <a:ext cx="674280" cy="996480"/>
            <a:chOff x="2171880" y="2303640"/>
            <a:chExt cx="674280" cy="996480"/>
          </a:xfrm>
        </p:grpSpPr>
        <p:sp>
          <p:nvSpPr>
            <p:cNvPr id="73" name="Line 12"/>
            <p:cNvSpPr/>
            <p:nvPr/>
          </p:nvSpPr>
          <p:spPr>
            <a:xfrm flipH="1" flipV="1">
              <a:off x="2238120" y="2406240"/>
              <a:ext cx="608040" cy="89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>
              <a:off x="2171880" y="2303640"/>
              <a:ext cx="137880" cy="14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Rectangle 16"/>
          <p:cNvSpPr/>
          <p:nvPr/>
        </p:nvSpPr>
        <p:spPr>
          <a:xfrm>
            <a:off x="677520" y="4968720"/>
            <a:ext cx="3512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croeconomic forecasting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ff5050"/>
                </a:solidFill>
                <a:latin typeface="Arial"/>
              </a:rPr>
              <a:t>Model operato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24"/>
          <p:cNvGrpSpPr/>
          <p:nvPr/>
        </p:nvGrpSpPr>
        <p:grpSpPr>
          <a:xfrm>
            <a:off x="2036880" y="4046400"/>
            <a:ext cx="809640" cy="873360"/>
            <a:chOff x="2036880" y="4046400"/>
            <a:chExt cx="809640" cy="873360"/>
          </a:xfrm>
        </p:grpSpPr>
        <p:sp>
          <p:nvSpPr>
            <p:cNvPr id="77" name="Line 22"/>
            <p:cNvSpPr/>
            <p:nvPr/>
          </p:nvSpPr>
          <p:spPr>
            <a:xfrm flipV="1">
              <a:off x="2036880" y="4138560"/>
              <a:ext cx="723960" cy="781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3"/>
            <p:cNvSpPr/>
            <p:nvPr/>
          </p:nvSpPr>
          <p:spPr>
            <a:xfrm>
              <a:off x="2697120" y="4046400"/>
              <a:ext cx="149400" cy="14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Rectangle 26"/>
          <p:cNvSpPr/>
          <p:nvPr/>
        </p:nvSpPr>
        <p:spPr>
          <a:xfrm>
            <a:off x="4655160" y="5029200"/>
            <a:ext cx="365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scal and structural analysis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33"/>
          <p:cNvGrpSpPr/>
          <p:nvPr/>
        </p:nvGrpSpPr>
        <p:grpSpPr>
          <a:xfrm>
            <a:off x="4060800" y="4046400"/>
            <a:ext cx="676080" cy="873360"/>
            <a:chOff x="4060800" y="4046400"/>
            <a:chExt cx="676080" cy="873360"/>
          </a:xfrm>
        </p:grpSpPr>
        <p:sp>
          <p:nvSpPr>
            <p:cNvPr id="81" name="Line 31"/>
            <p:cNvSpPr/>
            <p:nvPr/>
          </p:nvSpPr>
          <p:spPr>
            <a:xfrm flipH="1" flipV="1">
              <a:off x="4138200" y="4146480"/>
              <a:ext cx="598680" cy="773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32"/>
            <p:cNvSpPr/>
            <p:nvPr/>
          </p:nvSpPr>
          <p:spPr>
            <a:xfrm>
              <a:off x="4060800" y="4046400"/>
              <a:ext cx="149400" cy="14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Rectangle 34"/>
          <p:cNvSpPr/>
          <p:nvPr/>
        </p:nvSpPr>
        <p:spPr>
          <a:xfrm>
            <a:off x="5951520" y="4046400"/>
            <a:ext cx="2430360" cy="74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5"/>
          <p:cNvSpPr/>
          <p:nvPr/>
        </p:nvSpPr>
        <p:spPr>
          <a:xfrm>
            <a:off x="6098040" y="4118040"/>
            <a:ext cx="293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rnational relations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Group 39"/>
          <p:cNvGrpSpPr/>
          <p:nvPr/>
        </p:nvGrpSpPr>
        <p:grpSpPr>
          <a:xfrm>
            <a:off x="4871880" y="3755880"/>
            <a:ext cx="1214640" cy="290520"/>
            <a:chOff x="4871880" y="3755880"/>
            <a:chExt cx="1214640" cy="290520"/>
          </a:xfrm>
        </p:grpSpPr>
        <p:sp>
          <p:nvSpPr>
            <p:cNvPr id="86" name="Line 37"/>
            <p:cNvSpPr/>
            <p:nvPr/>
          </p:nvSpPr>
          <p:spPr>
            <a:xfrm flipH="1" flipV="1">
              <a:off x="5002200" y="3827520"/>
              <a:ext cx="1084320" cy="218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38"/>
            <p:cNvSpPr/>
            <p:nvPr/>
          </p:nvSpPr>
          <p:spPr>
            <a:xfrm>
              <a:off x="4871880" y="3755880"/>
              <a:ext cx="157320" cy="13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Rectangle 41"/>
          <p:cNvSpPr/>
          <p:nvPr/>
        </p:nvSpPr>
        <p:spPr>
          <a:xfrm>
            <a:off x="4280400" y="2060640"/>
            <a:ext cx="3624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onetary policy and strategy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ff5050"/>
                </a:solidFill>
                <a:latin typeface="Arial"/>
              </a:rPr>
              <a:t>Chief editor of the Policy Documen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Forecasting team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0" name="Line 123"/>
          <p:cNvSpPr/>
          <p:nvPr/>
        </p:nvSpPr>
        <p:spPr>
          <a:xfrm flipH="1">
            <a:off x="4211280" y="2637000"/>
            <a:ext cx="360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4920" y="1483920"/>
            <a:ext cx="80629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ponsible for the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bers meet operation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times several times per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the Near Term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cide about the basic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the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end the forecast facing rest of the department and Board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Forecasting team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Processes and timing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action with the Depar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partment Director and Division Direct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6 meetings (4 really concern the forecas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inutes of the meeting (intranet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action with the Bank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 meetin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inutes of the Meeting (intrane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Processes and timing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eting on forecasting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portunity to introduce changes i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sue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ainstorming, main drivers, set analytical 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itial conditions, External assumptions (CF), Equilibrium trends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the actual position of the economy, trends in future, external d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5050"/>
                </a:solidFill>
                <a:latin typeface="Arial"/>
              </a:rPr>
              <a:t>Initial conditions, External assumptions (CF), Equilibrium trends meeting with the B</a:t>
            </a:r>
            <a:r>
              <a:rPr b="0" lang="cs-CZ" sz="2800" spc="-1" strike="noStrike">
                <a:solidFill>
                  <a:srgbClr val="ff5050"/>
                </a:solidFill>
                <a:latin typeface="Arial"/>
              </a:rPr>
              <a:t>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370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ecast - first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 version of the forecast is presented to the depar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interest is put on the economic “story” underlying the forec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5050"/>
                </a:solidFill>
                <a:latin typeface="Arial"/>
              </a:rPr>
              <a:t>Alternatives meeting with the </a:t>
            </a:r>
            <a:r>
              <a:rPr b="0" lang="cs-CZ" sz="2400" spc="-1" strike="noStrike">
                <a:solidFill>
                  <a:srgbClr val="ff5050"/>
                </a:solidFill>
                <a:latin typeface="Arial"/>
              </a:rPr>
              <a:t>decision-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5050"/>
                </a:solidFill>
                <a:latin typeface="Arial"/>
              </a:rPr>
              <a:t>the baseline is presented as a “story” to the </a:t>
            </a:r>
            <a:r>
              <a:rPr b="0" lang="cs-CZ" sz="2000" spc="-1" strike="noStrike">
                <a:solidFill>
                  <a:srgbClr val="ff5050"/>
                </a:solidFill>
                <a:latin typeface="Arial"/>
              </a:rPr>
              <a:t>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5050"/>
                </a:solidFill>
                <a:latin typeface="Arial"/>
              </a:rPr>
              <a:t>discuss risks and choose 2-4 alternative 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ecast - final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l version of the forecast is presented to the depar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Arial"/>
              </a:rPr>
              <a:t>Monetary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policy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open part and presentations incl. policy advice of staff (final fcast and documents passed in 6 days ahe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closed part of BB, risks, decision (followed by press conf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 Mortem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Processes and timing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560" y="1484280"/>
            <a:ext cx="8839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ar-term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tailed expert knowled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ngle-equation techni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mple systems (VARs, structural model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r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mple gap model (deviations from long-term trends, advanced Kalman based filtering techniqu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8 behavioral equations (about 100 in total - identities, data transf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tive monetary poli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ell documented and publish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Technique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409760" y="765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Verdana"/>
                <a:ea typeface="Verdana"/>
              </a:rPr>
              <a:t>A Model Equation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: Infla</a:t>
            </a:r>
            <a:r>
              <a:rPr b="1" i="1" lang="cs-CZ" sz="3200" spc="-1" strike="noStrike">
                <a:solidFill>
                  <a:srgbClr val="000000"/>
                </a:solidFill>
                <a:latin typeface="Verdana"/>
                <a:ea typeface="Verdana"/>
              </a:rPr>
              <a:t>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5"/>
              <p:cNvSpPr txBox="1"/>
              <p:nvPr/>
            </p:nvSpPr>
            <p:spPr>
              <a:xfrm>
                <a:off x="1116000" y="1979640"/>
                <a:ext cx="741672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xe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 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φ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E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3651120" y="3722760"/>
                <a:ext cx="18417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t xml:space="preserve">γ</m:t>
                    </m:r>
                    <m:r>
                      <m:rPr>
                        <m:lit/>
                        <m:nor/>
                      </m:rPr>
                      <m:t xml:space="preserve">=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4" name="Object 2"/>
              <p:cNvSpPr txBox="1"/>
              <p:nvPr/>
            </p:nvSpPr>
            <p:spPr>
              <a:xfrm>
                <a:off x="1676520" y="1371600"/>
                <a:ext cx="6019560" cy="17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s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neut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3"/>
              <p:cNvSpPr txBox="1"/>
              <p:nvPr/>
            </p:nvSpPr>
            <p:spPr>
              <a:xfrm>
                <a:off x="1676520" y="3429000"/>
                <a:ext cx="59817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κ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E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ar</m:t>
                            </m:r>
                          </m:sup>
                        </m:sSubSup>
                        <m:r>
                          <m:t xml:space="preserve"> </m:t>
                        </m:r>
                      </m:e>
                    </m:d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ap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06" name="Text Box 4"/>
          <p:cNvSpPr/>
          <p:nvPr/>
        </p:nvSpPr>
        <p:spPr>
          <a:xfrm>
            <a:off x="1999080" y="765000"/>
            <a:ext cx="533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Verdana"/>
                <a:ea typeface="Verdana"/>
              </a:rPr>
              <a:t>A Model Reaction fun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Special to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79280" y="1557360"/>
            <a:ext cx="876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sk treat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how to treat forecast uncertain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aching probability distributions to ris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ne by each BB member, not staff’s jo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us: alternative scenarios preferable to fan-chart approach; scenarios selected by B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forecast bands (1,5 p.p.) stable, more to communicate general uncertaint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fic risks communicated through BB’s Minu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Outline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23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ey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cesses and ti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cial topics (risks, FPAS and B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Verdana"/>
              </a:rPr>
              <a:t>Thank you for your attention.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lation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in tool for the Board to decide about monetary polic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etary Depart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in concern is to produce the foreca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prerequisite for producing the forecast is to develop Forecasting syste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cesses and ti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600" y="1599840"/>
            <a:ext cx="861048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le of the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the economy is, and what the current trend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their likely evolution into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the implicit ri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the underlying policy pressures and policy simulations (active/endogenous M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cesses and ti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o and how is producing the foreca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reful planning and document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cise timing for the forecasting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ness - intranet web pag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861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re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ar term forecasting techniqu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conometric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t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atellite mode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scal policy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change rate and external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ls versus Expert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pert views always superior in the near ter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del tools provide medium-term consistency and interpretabil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final outcome will always be based more on economic judgement - the core model is an organisational to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taff’s forecast, not a model foreca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etary department and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croeconomic forecasting divi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 preparing the near term fore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 developing and operating the cor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netary policy divi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 for MP strategy a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 for the operational 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scal and structural analysis divisi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ternational economy divi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Processes and ti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79280" y="1628640"/>
            <a:ext cx="87631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rterly forecast (5 week proc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ecasting team and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action with the Board at various s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well documented forecast rounds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5T06:44:47Z</dcterms:created>
  <dc:creator>U03133</dc:creator>
  <dc:description/>
  <dc:language>en-US</dc:language>
  <cp:lastModifiedBy>uzivatel</cp:lastModifiedBy>
  <cp:lastPrinted>2002-12-10T16:18:24Z</cp:lastPrinted>
  <dcterms:modified xsi:type="dcterms:W3CDTF">2019-08-27T20:27:02Z</dcterms:modified>
  <cp:revision>48</cp:revision>
  <dc:subject/>
  <dc:title>Forecasting process in the CNB</dc:title>
</cp:coreProperties>
</file>